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41A-640A-43E9-9469-79741314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9FD-F228-4F43-9226-0E35E03E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087-6E72-462C-B53F-7ED23315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0EB-6222-4BD3-A636-414D73C2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32A-C601-43BB-9202-DE083337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CC7-6F59-4BF0-9950-3C1CE7DC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CE5-90DB-4CDE-A951-BCA93D73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284-1323-447C-A584-2D2A10BA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616-CFC3-4FD1-8425-B1966EB9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1CE-BAC1-4FBC-9C12-55589FC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DDC-DC78-43C3-B28C-B1D5096F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37B-0CDE-40F7-AB55-1C229BBF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E780-113A-4008-8A3A-EE1F2CD0E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 of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% of $1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% of $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ing Shopping 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0 Percent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Vocabulary: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n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ecrease in the price of an item is a discount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find the discou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Change the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iscount into a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ci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ltip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decimal times the original pri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gives you your dis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that you are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060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105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mart is having a sale.  All DVDs are on sale for 20% off. The original price of the new Harry Potter DVD is $15.  How much money will you save if you but it on sal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e Pr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sale price is easy once you know the discount, or amount that you’re sav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Take th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iginal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iscou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your sale pr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0600" y="38088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one togeth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purchasing an PacSun sweatshirt, which is 30% off the original price of $6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Write 30% as a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ultiply 68 x .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are saving $20.40 (our discou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find the sale price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060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3352680"/>
            <a:ext cx="800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Subtract the discount from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8.00 – $20.4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e Pri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7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36840" y="960480"/>
            <a:ext cx="2468520" cy="2468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9904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some on your own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the discount, and then calculate the final sale pri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Target is selling the Apple iPod Touch at 15% off its original price. What is the sale price of the iPod that was originally priced at $199.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3080" y="38088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) You see a game that you want. It is originally priced at $20.00, but it is marked 24% off. What is the 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) Original Price: $42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: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) Original Price: $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: 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3:13:00Z</dcterms:created>
  <dc:creator>Brian McGrath</dc:creator>
  <dc:description/>
  <dc:language>en-US</dc:language>
  <cp:lastModifiedBy>Brian McGrath</cp:lastModifiedBy>
  <dcterms:modified xsi:type="dcterms:W3CDTF">2011-03-23T02:24:08Z</dcterms:modified>
  <cp:revision>3</cp:revision>
  <dc:subject/>
  <dc:title>Warm - up:</dc:title>
</cp:coreProperties>
</file>